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D99-D3F8-4AD1-97B2-DF1EE4CA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D82-34FC-4E8E-9A88-3E64E8DD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FA1-3D5E-45BA-BA85-58FEA392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308-9711-445A-B365-A3FCA711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424-93B8-4C3D-9DDF-4B3B49AD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7DF-67B7-48C6-AAB2-BF998CA0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000-91F6-4AB0-8429-AC100282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624-D50E-4209-AA37-EA8A0E04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74E-68D7-4FF5-8E23-0A3A9DDD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07B-5D33-43F0-81B8-C028E6FA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817-FB8A-419E-AC34-AB232680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C7C-963F-4173-997D-1BA4E5DE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D360-ADA1-49BF-B544-6D382DA182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rangholm Hall 2"/>
          <p:cNvPicPr/>
          <p:nvPr/>
        </p:nvPicPr>
        <p:blipFill>
          <a:blip r:embed="rId1"/>
          <a:stretch/>
        </p:blipFill>
        <p:spPr>
          <a:xfrm>
            <a:off x="1928880" y="1989000"/>
            <a:ext cx="1133280" cy="1303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rangholm Hall 75th"/>
          <p:cNvPicPr/>
          <p:nvPr/>
        </p:nvPicPr>
        <p:blipFill>
          <a:blip r:embed="rId2"/>
          <a:stretch/>
        </p:blipFill>
        <p:spPr>
          <a:xfrm>
            <a:off x="3584520" y="1989000"/>
            <a:ext cx="933480" cy="1289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SHAW  150TH                     WISHAW  MILLENNIUM        WISHAW  &amp;  NEWMAINS  CO - OP         WISHAW  SOUTH                         WISHAW  SOUTH                        WISHAW 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1652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rangholm Hall 1"/>
          <p:cNvPicPr/>
          <p:nvPr/>
        </p:nvPicPr>
        <p:blipFill>
          <a:blip r:embed="rId3"/>
          <a:stretch/>
        </p:blipFill>
        <p:spPr>
          <a:xfrm>
            <a:off x="272880" y="1989000"/>
            <a:ext cx="1170000" cy="1376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Wishaw Co - Op"/>
          <p:cNvPicPr/>
          <p:nvPr/>
        </p:nvPicPr>
        <p:blipFill>
          <a:blip r:embed="rId4"/>
          <a:stretch/>
        </p:blipFill>
        <p:spPr>
          <a:xfrm>
            <a:off x="3440160" y="692280"/>
            <a:ext cx="115236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Wishaw South 1"/>
          <p:cNvPicPr/>
          <p:nvPr/>
        </p:nvPicPr>
        <p:blipFill>
          <a:blip r:embed="rId5"/>
          <a:stretch/>
        </p:blipFill>
        <p:spPr>
          <a:xfrm>
            <a:off x="5097600" y="54936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ishaw South 2"/>
          <p:cNvPicPr/>
          <p:nvPr/>
        </p:nvPicPr>
        <p:blipFill>
          <a:blip r:embed="rId6"/>
          <a:stretch/>
        </p:blipFill>
        <p:spPr>
          <a:xfrm>
            <a:off x="6537240" y="33336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ishaw South 3"/>
          <p:cNvPicPr/>
          <p:nvPr/>
        </p:nvPicPr>
        <p:blipFill>
          <a:blip r:embed="rId7"/>
          <a:stretch/>
        </p:blipFill>
        <p:spPr>
          <a:xfrm>
            <a:off x="7977240" y="333360"/>
            <a:ext cx="1230120" cy="1216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ANGHOLM  HALL                       WRANGHOLM  HALL               WRANGHOLM  HA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Wishaw  Millennium"/>
          <p:cNvPicPr/>
          <p:nvPr/>
        </p:nvPicPr>
        <p:blipFill>
          <a:blip r:embed="rId8"/>
          <a:stretch/>
        </p:blipFill>
        <p:spPr>
          <a:xfrm>
            <a:off x="2073240" y="47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ishaw 150th.jpg"/>
          <p:cNvPicPr/>
          <p:nvPr/>
        </p:nvPicPr>
        <p:blipFill>
          <a:blip r:embed="rId9"/>
          <a:stretch/>
        </p:blipFill>
        <p:spPr>
          <a:xfrm>
            <a:off x="488880" y="476280"/>
            <a:ext cx="9367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4:23:13Z</dcterms:created>
  <dc:creator>JY</dc:creator>
  <dc:description/>
  <dc:language>en-US</dc:language>
  <cp:lastModifiedBy>John</cp:lastModifiedBy>
  <dcterms:modified xsi:type="dcterms:W3CDTF">2011-11-17T19:38:34Z</dcterms:modified>
  <cp:revision>8</cp:revision>
  <dc:subject/>
  <dc:title>Slide 1</dc:title>
</cp:coreProperties>
</file>